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D8D-333D-4618-A947-BD1D4A5A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6C3-E478-4286-816A-B5BE5B4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E3B-DCB5-4C79-8CBD-9E7D683F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75E-CA3F-469A-A4BB-2DA9648E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CCA-4648-4CC0-89E1-66F5244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243-1ED7-40A2-94E8-524F42E2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2D3-46D5-43AA-B046-A2F5520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6C5-12C1-479D-9E73-74F51FF0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5BF-5688-43B8-9DBB-70E39BD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D22-383B-4B31-93C2-A90D039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D27-53C1-42E4-B414-02FEAC2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CC3-85BB-4E31-9E69-32D78370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73D-5A2E-41B0-8687-B3EA7B8A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i="1" lang="it-IT" sz="6000" spc="-1" strike="noStrike">
                <a:solidFill>
                  <a:srgbClr val="000000"/>
                </a:solidFill>
                <a:latin typeface="Arial"/>
              </a:rPr>
              <a:t>IO E…                       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i="1" lang="it-IT" sz="6000" spc="-1" strike="noStrike">
                <a:solidFill>
                  <a:srgbClr val="000000"/>
                </a:solidFill>
                <a:latin typeface="Arial"/>
              </a:rPr>
              <a:t>I NUMER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308000">
            <a:off x="468000" y="2276280"/>
            <a:ext cx="741024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 . . 1       2      3     4         5      6       7       8      9 . . .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270828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77336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Una realtà strana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11280" y="155736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rigante e  avvince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OPPO BELLO PER ESSERE V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881800">
            <a:off x="611280" y="765000"/>
            <a:ext cx="396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 l’ingresso nella scuola secondar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57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sogno si infra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9600">
            <a:off x="2700360" y="1484280"/>
            <a:ext cx="5689440" cy="493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692280"/>
            <a:ext cx="39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I numeri girano nella mia test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197000"/>
            <a:ext cx="216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erco una sistemazi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598200">
            <a:off x="1476360" y="907560"/>
            <a:ext cx="4824360" cy="416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11640" y="3645000"/>
            <a:ext cx="41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provo a tenerli in ordine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836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Oggi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41:04Z</dcterms:created>
  <dc:creator>Gloria</dc:creator>
  <dc:description/>
  <dc:language>en-US</dc:language>
  <cp:lastModifiedBy>Gloria</cp:lastModifiedBy>
  <dcterms:modified xsi:type="dcterms:W3CDTF">2012-03-13T19:58:16Z</dcterms:modified>
  <cp:revision>8</cp:revision>
  <dc:subject/>
  <dc:title> IO E…                            I NUMERI</dc:title>
</cp:coreProperties>
</file>